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3, AIM 3.0 Project Standards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F5EFD218-B3A0-4D7A-9AB8-1DC2E946CC34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8096040" y="56520"/>
            <a:ext cx="685800" cy="57168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6600" y="685800"/>
            <a:ext cx="8807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778600" y="670536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735-0B91-4963-AC76-261C7B49A3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4320" y="15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22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O, Lt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6800" y="3441240"/>
            <a:ext cx="5983200" cy="142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06560" y="0"/>
            <a:ext cx="6337440" cy="315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ing Plan and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639720"/>
          <a:ext cx="8381880" cy="5719680"/>
        </p:xfrm>
        <a:graphic>
          <a:graphicData uri="http://schemas.openxmlformats.org/drawingml/2006/table">
            <a:tbl>
              <a:tblPr/>
              <a:tblGrid>
                <a:gridCol w="1241280"/>
                <a:gridCol w="3002040"/>
                <a:gridCol w="901800"/>
                <a:gridCol w="1625400"/>
                <a:gridCol w="1611360"/>
              </a:tblGrid>
              <a:tr h="326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wn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43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Portal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ring C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; Dec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Project Planning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/Questions/Risk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Work Packages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Project Team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 by top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Crossover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(subpro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e call Govern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Statu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51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7:24:47Z</dcterms:created>
  <dc:creator>SAP</dc:creator>
  <dc:description/>
  <dc:language>en-US</dc:language>
  <cp:lastModifiedBy>d031429</cp:lastModifiedBy>
  <dcterms:modified xsi:type="dcterms:W3CDTF">2003-12-12T15:22:20Z</dcterms:modified>
  <cp:revision>325</cp:revision>
  <dc:subject>Version 1</dc:subject>
  <dc:title>Meeting Plan</dc:title>
</cp:coreProperties>
</file>